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03D-484B-412C-8E3D-BFDBD851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C5D-CBBB-4D19-BCC6-02370C790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C5F2-E5A5-49AD-ACCE-F68765B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C5D-D54E-40FA-B0E5-6FC9DECF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DDE-A1EA-4CDB-8059-1350F46D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0CC-3872-4F60-B15F-C729B62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CEC-7AC4-4D9E-8215-FC2F28156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520-FCD6-4D1E-A957-DE436F30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BB2-9680-4266-BABD-52A305D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77D-83B1-4EFF-812F-D23D0CD0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CE9-E66C-4A9E-807B-B8CBC998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AB6-BAD7-4591-81AB-8FCF1B25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F24-7A46-492E-899E-7EC0DFCA6C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ELL PROJEC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3068280"/>
            <a:ext cx="8280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ow does the use of technology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udent motivation to practise Japane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outside of the classroom and 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cognition of Level 1 kanji characters?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84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99"/>
                </a:solidFill>
                <a:latin typeface="Arial"/>
              </a:rPr>
              <a:t>Focus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Contex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468360" y="1773360"/>
          <a:ext cx="8064360" cy="400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8064360" cy="40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24000" y="1052640"/>
          <a:ext cx="8640720" cy="42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052640"/>
                    <a:ext cx="8640720" cy="42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Baseline recognition 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ebsites int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Goal sett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Ref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teps 4 &amp; 5 rep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Additional test conducted at the end of week 2 and week 4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820908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0643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99"/>
                </a:solidFill>
                <a:latin typeface="Arial"/>
              </a:rPr>
              <a:t>Significant Finding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For a number of students the option to use technology did increas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ir motivation to practise which resulted in improved achievemen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Regardless of whether the students engaged more with technology or traditional methods such as flash cards, gaining ‘feedback’ appeared to be the most motivating fact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The learning log encouraged them to engage in reflective thought and action which also appeared to increase their motivation to practi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ff99"/>
                </a:solidFill>
                <a:latin typeface="Arial"/>
              </a:rPr>
              <a:t>References (APA)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Becta ICT Research (200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http://partners.becta.org.uk/upload-dirdownloads/page_documents/research/wtrs-mfl.pdf.    Accessed 18/08/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Friesner, Tim and Hart, Mike (2005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Learning Logs: Assessment or Research Method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Electronic Journal of Business Research Methods, 3 (2) 117-122. Accessed 20/09/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Liddicoat, Anthony J. (2004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Intercultural Language Teaching: Principals for Practice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The New Zealand Language Teacher, 30, 17-23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acFarlane, A., Glynn, T., Cavanagh, T., Bateman, S., (2007)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Creating Culturally-safe schools for Maori students.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 The Australian Journal of Indigenous Education, 36, 65-7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inistry of Education (2008).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Ka Hikitia, Managing for Success the Maori Education Strategy 2008-101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inistry of Education (2007).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The New Zealand Curriculum.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Wellington, New Zealand; Learning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Medi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Pavy, Sarah (2006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Boys Learning Languages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 The New Zealand Language Teacher, 3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Prensky, Mark (2001). </a:t>
            </a:r>
            <a:r>
              <a:rPr b="0" i="1" lang="en-AU" sz="1400" spc="-1" strike="noStrike">
                <a:solidFill>
                  <a:srgbClr val="ffffff"/>
                </a:solidFill>
                <a:latin typeface="Arial"/>
              </a:rPr>
              <a:t>Digital Natives, Digital immigrants</a:t>
            </a: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 On the Horizon, 9 (5) 1-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9:21:57Z</dcterms:created>
  <dc:creator>Ministry of Education</dc:creator>
  <dc:description/>
  <dc:language>en-US</dc:language>
  <cp:lastModifiedBy>hawesj</cp:lastModifiedBy>
  <dcterms:modified xsi:type="dcterms:W3CDTF">2010-02-01T03:17:14Z</dcterms:modified>
  <cp:revision>18</cp:revision>
  <dc:subject/>
  <dc:title>Context</dc:title>
</cp:coreProperties>
</file>